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444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7A0A436-9D29-4C78-8FF9-052E024A105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 didn‘t make our models OSCI TLM compliant upfront because lack of features when we buil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 solution for HW engineers -&gt; We see SystemC as system language but not as RTL and Desig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x better 100x needed to make a business case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bjects violate a basic principle of OO: Data H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V does not run on actual SystemC standard, not OSCI TLM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e6e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836640"/>
            <a:ext cx="777708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5808600"/>
            <a:ext cx="11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olfgang Eck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olkan 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006-03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2C4E0AD3-AFB6-44DC-8B47-DC8CFE18F54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16000" y="46080"/>
            <a:ext cx="795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280" y="85680"/>
            <a:ext cx="118764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10160" y="53737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kan Esen, Wolfgang 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eon Technologies AG, Mu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94680" y="5445000"/>
            <a:ext cx="1458720" cy="72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765000"/>
            <a:ext cx="78120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SCI Lunch Pane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 Software Development, and Functional Verification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ineon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SCI TLM compliant TL-Modeling successfully used at Infineon since y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ototypes for early S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models for RTL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own models used except fast processo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shall be made OSCI TLM compl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C is a clas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lution for concept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ual solution for HW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SystemC/HDL Models are not sufficiently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are behind in SystemC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support SystemC/HDL interfaces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does not guarante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evel design with SystemC / HDL needs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 TLM SystemC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t based SystemVerilog TLM model was factors faster than its SystemC uint based counter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C Versions require specific gcc versions and allow limited optimization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ystemC kernel needed which is 10x – 100x faster than the OSCI kern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 Issues: Execution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L/TLM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is the only choice today, however cannot run all TLM scenarios on RTL without using an accelerator/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pproa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M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more efficient method for probing the design without making all states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verification methodology requires re-adjustment for T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assertions slowly e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erification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st issues found in SystemC applications tackled by OS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DL/System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ification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leanup for speed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col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ummary and 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70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Wednesday, March 8, 200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: 12:30 - 14:00 pm - Meeting (lunch provid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: Room 13b, ICM, Munich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velopment, and Functional Verifica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from leading companies around the world will discuss thei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s developing and deploying SystemC transaction-level model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provements that have resulted as well as difficulties they ha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come. This special forum will provide you with invalu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, insights, and real world solutions to reduce your risks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 ESL adoption success with SystemC and TLM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panel of experts will explore the issues that initiated their mo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LM, their current approach, and the key factors driving design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productivity. The discussion will highlight the import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tandards for TLM model interoperability and reuse, the nee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and IP owners to provide users with TLM views in SystemC,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ations for interoperability between SystemC and non-System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d by Wolfgang Nebel, OFFIS, Oldenburg University and Chip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System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include Ralph von Vignau, Philips Semiconductor and Chairm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PIRIT, Frank Ghenassia, ST Microelectronics and OSCI TLM WG Chai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Form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Lunch Service and Welc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OSCI Update - Al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45 minutes Panel (speakers prepare for 10 minutes each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Q&amp;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97080" y="0"/>
            <a:ext cx="781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Backup: PANEL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0:58:49Z</dcterms:created>
  <dc:creator>Zambaldi_48803</dc:creator>
  <dc:description/>
  <dc:language>en-US</dc:language>
  <cp:lastModifiedBy>Volvo</cp:lastModifiedBy>
  <dcterms:modified xsi:type="dcterms:W3CDTF">2006-03-07T23:35:38Z</dcterms:modified>
  <cp:revision>63</cp:revision>
  <dc:subject/>
  <dc:title>Kein Folientitel</dc:title>
</cp:coreProperties>
</file>