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FEE8-B425-416D-9EBB-210849336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680D-99FF-407A-8EA0-BB98CB1A5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C5A9-CED1-4DE3-8543-7A830C89A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DB4E-F106-4B87-BCEF-86F7D7FCF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6809-B8C7-43F3-ABE3-94361EAC3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FBD4-B9F7-4AA6-9AC0-7F5335B7B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5DEE6-610D-4540-80EA-559BF392B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E9037-67E6-4988-9A2E-7789EF9594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19257-AFD2-4721-BF5E-F6090BEF2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178C-9EEA-4338-8CC5-35457A2FCB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A86E-7C88-496C-9A78-972DDB8BC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011E6-BECB-4202-AFB9-718FD30FB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CE2F-12D4-4DC6-80DE-77157F1E9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72665-4E73-46BA-A913-ED17703EA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56A2-B032-4130-96F3-72EFE042B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1DC8F-8C66-417B-A40A-641AF5882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5525-50E2-45B2-8743-4CAAF03CB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AA9A-7D15-49C0-8C07-B3380FDFD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160" y="863640"/>
            <a:ext cx="5904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3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6360" y="860400"/>
            <a:ext cx="57373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7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8-06-04T21:41:17Z</dcterms:modified>
  <cp:revision>88</cp:revision>
  <dc:subject/>
  <dc:title>AT Basic System Example</dc:title>
</cp:coreProperties>
</file>