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5DB6F-189C-4873-B96C-7AD3767077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71C4C-E832-40CF-A2BB-DCC3EEE826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BC33D-2543-4D1B-ABD2-A25A840CD5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3FDCC-5048-4C55-AE44-070989F28B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36AAC-0142-4532-A795-22A4B5018A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E814C-8C6B-4233-A4E6-031DA25BA9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53EF57-9BA7-43BE-93DD-3009AC2795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95188B-2D11-4BF2-BDF8-071E55D749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C8B7BC-5D56-4163-B6B7-456A336AEA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E92D2F-7405-4EFA-98C9-2FF65E6214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6B59DA-6CB8-4982-A1D6-42FFCAE881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F22CEB-CECE-46A0-8B70-27DB23ACAA0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46FBE4-916A-4504-AD4C-1CBD5DD63C3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4EE6DE-F310-4857-B6BD-B6CD9AE0CE1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9B5390-BA53-44E0-B75F-347B35B360A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160C6F-850C-4D2D-A092-83E8BE4FB1C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523C43-9440-4F8E-88FC-AEDBCEFBE45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4C8B62-6794-49F0-B7B9-25271256D83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57128D-0FB9-4EA0-887B-5E66C65A572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F5E24E-59D0-45D8-B868-6F39177CDFB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C928CE-A2C9-4BA9-ABDB-B646F872185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262A00-682E-4259-8703-AECFC95B1D8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01A444-F818-4A9E-9B96-AE86C4C713B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C80141-0C78-4DB8-9093-1C620B79A3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856BDE-A542-459A-940E-450C2830A3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66464F-D206-42D0-A74D-29E335C743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CE98AE-6529-4297-875D-7B35EE838F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61E493-B0BE-41E9-848D-3F7C0850F6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3BF4A8-8120-4001-96A5-D0DB6C4464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B6B28C-A615-4B7C-82E0-9FBCF45D85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B4AF2-23A0-4AF2-921D-20FDB68B23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8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8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56639-C472-4D2B-94D0-12509A6E21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CDD48-39C0-40FC-87D9-BD9A6B4C42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7B94C-42D5-4D98-B5BF-2C6DCC6427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B8725-6210-476A-8748-4339E4B76A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0A229-164D-4394-8EF2-46E2111C60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CE586-50F5-4C82-B739-0C2762E1EC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11A5A-8FAA-41D4-AC6F-2C86FB5D03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C3B81-70ED-4745-95FD-A4918E51F3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862CE-DA5C-45DC-A492-63BA8478EB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F4CF8-D3A1-4792-9715-2146E5EFDB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FF11E-E499-41B9-8ABC-7754D7D64D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933D9-842F-4100-8CCA-9744E9AD11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21CC4-017F-48E2-B4AC-F8DD523D9A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9520" y="928800"/>
            <a:ext cx="39038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tra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9BE51-0018-4ABD-A62F-B1E51CC87F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 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6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8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C4192-33D0-4EA4-9C5B-B32E55D273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33CD8-22FB-492E-A4DA-F43162853B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3B98F-68A6-4B9F-9C4A-139BC23861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9B919-DD9B-4A5A-827C-9A6A2B2898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443C0-FD37-401A-AE39-6E4735E263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4F1E2-5AFB-4256-BA45-47A5E2C0F7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E63A1-4888-4403-8A8E-1076A4C124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2B807-407F-437D-B143-5593D071CF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10558-EA10-413F-91F1-A96A7F1226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03BFA-BC83-4CC4-97B1-63AB00B1F0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21617-9289-438F-8B11-ED850977B7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E3565-0A84-474A-9D18-3BCBBFF64A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648000" y="4616280"/>
            <a:ext cx="2020320" cy="736200"/>
            <a:chOff x="648000" y="4616280"/>
            <a:chExt cx="2020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648000" y="5045400"/>
              <a:ext cx="2020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u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6880" y="4616280"/>
              <a:ext cx="1056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u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FDC44-6D3A-464D-B079-5F5CC08FE7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FEFCC-82B3-47F7-A05D-5A0CF00DEF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EE8E9-805B-444E-B82D-5D71E224FD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1459A-2C43-45E3-B897-021A6EA5DD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90470-2F1B-44F1-B981-2DA0025AEB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480"/>
            <a:chOff x="3665520" y="5286240"/>
            <a:chExt cx="4780080" cy="40248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016600" y="538164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0181E-D262-41A3-9B10-6F1CA899FA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423680" y="4519440"/>
              <a:ext cx="3225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4C307-768C-4162-B7F5-2A9E98B317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C0283-AA7D-4C5D-98EA-2D873DCACD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D3777-5D53-4141-B726-117F8899F2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2D134-D22A-4E99-9F37-8685635E54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6A64E-B842-4C5A-B1FF-394547D124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DF495-18B3-4403-BFD2-6394E88420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DC395-BD52-456F-A40D-5FAD4F22D1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FA4C9-683B-476E-89B7-2BA91C31E4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DFF20-2505-4B38-93A8-E030F866D8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F79E8-D863-42EC-96B7-22CFB298C9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8D299-84D1-4E1E-B68B-4D02469E5F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139DB-DC1D-46F0-BF61-1614D2AFAC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EE7E1-165A-4CC2-BEC1-99ECC68858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B0C37-58B3-4A89-8316-6BBA1A29E2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DEDFE-6971-44C3-BF96-30879BC9BE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DF7AF-9595-4442-B5B4-BCDEC1A427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880E5-ADEE-484A-8479-E2E5A3B682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5B0D2-38A5-4652-BCF5-28BD45BA14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6CC97-D329-4E0C-8128-E426C809CA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046B2-76FB-4B8D-BAEB-3DAA6D10DE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99769-7797-4718-AB66-BF7CB52153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9C21C-5D1F-417B-9B6B-FB8736814F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72674-28F4-4FBF-85EE-A01505FBF1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D354F-4634-4B01-8B1E-4F6393C632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E364B-DE18-4F31-89D2-1149CBCBAA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9BBE7-1A54-4CF9-9B21-53FE2C7FF5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AB3CD-5823-48A0-B659-105687419E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1ABB2-8FEB-46EF-AC12-81CA925C71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F3B51-A1EB-4733-B6F1-4FC9734F4B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54A74-3591-489F-8DCB-80DF4B76BC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07085-4DBA-490C-A498-35C0B8ADC9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into(tlm_generic_payload&amp; other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46FC7-F3F0-4D7E-8486-912750C030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CE932-88A4-4164-8F85-35942E3D17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C2732-5C78-4A95-8C76-5AB98AED4F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90892-9E1B-4BA6-90F8-4095987A9B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D35EF-2270-411A-BAFF-3773B9A90E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0F768-5A1B-41A5-AF3E-8B381CC0B5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0806F-7D44-4BCA-8752-89378F2E24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DED87-6E39-4747-9BDF-AB29A2EE1C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99C66-8962-4DE8-9316-7BF1FC9AF0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5051C-3C68-4D38-9E82-E491CE43C7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A6F53-D3C4-4A4E-AEC6-214B80BBED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0108E-3F73-4373-939B-36056D03F0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AFFA7-B797-49E8-90C9-1B5225DABD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00E8D-40CF-4F28-B0FF-69A9BECB9F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0A685-25DB-4D86-813A-595414C1F2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304920" y="1279440"/>
            <a:ext cx="8510400" cy="41576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23002-EBF3-492C-9134-2A024707C9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22F4A-8CAF-44E7-A754-C43D528E2A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58271-DF22-44AC-8FC3-21A472242B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392040" y="857160"/>
            <a:ext cx="652104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new tlm_generic_payload( mem_mgr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E72FF-ECE2-4C70-AE96-4A02F9C9D9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F6B24-26C2-4F0A-8245-634B74B0A5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87CE5-D5AF-4CF5-96AA-2E299B8AFB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00A6B-FB63-4B3C-B9F3-E4AD1C736E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21721-013A-41C6-9021-E7680E1FC6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11225-94B3-4CB4-8401-727C3631B3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9F327-0B15-4BF9-9C6D-0DBA027C62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91D54-3DE2-46D0-97CE-373FA46FE5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C67BE-4666-4DFD-81E6-995965A09E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523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166C6-9047-46E4-970B-97BB18CC5B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39D57-B6BB-4E5C-943B-857A8382C9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A5A03-87D4-4CED-BA6D-21F36867FE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9DA4D-C00B-49D3-B5A4-93BBD279E7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FD3E6-DBB0-4DD1-937C-50F56A56F4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18C97-FB0A-4640-B993-73075CD1AC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B66CA-6484-4BF4-A2B6-001DABC0F3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982E9-7991-4FFE-BBD6-3FB84061E9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4393D-D796-4033-A707-05EE6F0AB5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399EF-AD1D-4089-8B86-4FA0BEABC4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 </cp:lastModifiedBy>
  <cp:lastPrinted>2002-03-05T00:56:29Z</cp:lastPrinted>
  <dcterms:modified xsi:type="dcterms:W3CDTF">2008-06-06T08:52:13Z</dcterms:modified>
  <cp:revision>1580</cp:revision>
  <dc:subject/>
  <dc:title>TLM WG Status 070327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710917829</vt:r8>
  </property>
  <property fmtid="{D5CDD505-2E9C-101B-9397-08002B2CF9AE}" pid="3" name="_AuthorEmail">
    <vt:lpwstr>bart@CoWare.com</vt:lpwstr>
  </property>
  <property fmtid="{D5CDD505-2E9C-101B-9397-08002B2CF9AE}" pid="4" name="_AuthorEmailDisplayName">
    <vt:lpwstr>Bart Vanthournout</vt:lpwstr>
  </property>
  <property fmtid="{D5CDD505-2E9C-101B-9397-08002B2CF9AE}" pid="5" name="_EmailSubject">
    <vt:lpwstr>TLM-2.0 Presentation ja6.ppt</vt:lpwstr>
  </property>
</Properties>
</file>