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FC39-E4E8-4137-9041-7FBBE996F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43FB-8B02-4A4E-A424-7F56EEC7E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8DB2-114F-4981-A970-B9B473B09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2A63-C77F-4F44-AFEC-EE09093EF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07BD-8CE1-441A-9045-A55914969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6E1B9-A236-4090-9BC3-28990BFD42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B1B19-883F-450F-8DD4-601F0C6D37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3817B-39BE-415E-8B2B-7A4D4ABE0D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512D0-6C17-4F77-B613-C0BAF63AA7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C19C4-B337-4679-B222-45A438C7AB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640F9-5C6D-4B52-932F-400E7910B6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34A4D-2779-4CCC-963F-194649C0DB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10450-F6F6-42FB-90BB-26E3377EAF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A4F8D-C1F4-4CB8-A0F1-65BEFCD3E5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DE626-D975-4E0C-A1C3-AA8BD1AA89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ACEC5-B61A-492D-A997-0513314045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4B5E2-FC15-49E2-9272-D716CADCA2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16F9-C731-4FBB-8B65-2DD02AC64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5T12:39:23Z</dcterms:modified>
  <cp:revision>85</cp:revision>
  <dc:subject/>
  <dc:title>AT Basic System Example</dc:title>
</cp:coreProperties>
</file>