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C058-84BF-4325-8674-308586365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057A-E268-4881-95C7-C1B3AFE9D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7184-BDDD-43E1-B4D8-1F94425D5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A6DE-E113-4E77-A8FD-6D5C2A867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1DFD-A0DA-48B9-B78D-968E770B2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AED6F-E13C-4672-9EB0-40D5FDBFF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F6B4A-9E61-477F-80A7-B26A232B5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175DE-AFD0-454A-AB92-6528098BA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B53CE-54E0-45D2-BB58-79B43242A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33DB7-DC2B-4199-ADD5-38870C36F2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292F1-F778-423E-90B4-37583641F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E2B51-CB1F-4F09-A6A9-4E939F3D0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3923E-E181-4658-B83A-1EE48D7B6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6C93A-4E01-4064-8C04-D4F9C41CF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0BBC2-B3FC-4F45-9FB1-E89D88024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778D0-0B17-4B55-866C-CE7EFDAC5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9644F-6D7D-4336-A480-B3C44711D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1681-6D21-470A-B8AC-F077C1120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-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71000" y="1027080"/>
            <a:ext cx="4937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2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3200" y="1647720"/>
            <a:ext cx="5085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8-06-04T21:38:24Z</dcterms:modified>
  <cp:revision>84</cp:revision>
  <dc:subject/>
  <dc:title>AT Basic System Example</dc:title>
</cp:coreProperties>
</file>