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CA9F5-3EEC-4AE4-844A-BA6C8932E3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883DF-4FAD-4EA9-9053-EF931D99C9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32206-E869-47E7-8A7E-8993DF244B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071B5-9CE4-4C93-B2A7-B417DC67B5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4DD76-9D61-403D-BB20-CE48E359FC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39F73-D23C-4659-8080-34AE2D50F7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26DF7-8686-4403-BB64-8562F9B5BE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58B83-08C3-43E9-8F70-DBC3A48DD4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AC9C3-3C96-4B8D-859A-7B13BE4A31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7549C-9CD6-49D2-87E2-15116C1B45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C89BE-427B-4F49-ABBD-BB99E4D782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25C08-9B07-4A7C-B0C0-60113785F3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55DB1-E69A-42C8-AD3C-668F2D02EC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C8422-0AF7-45D9-A34D-C787E09E81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08CF8-7F11-4B25-AA98-0222746E3E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91DFC-3262-49D3-82F1-2813E1EF15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A3AD5-11BD-4D37-9DAA-93D718FF54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76812-B6E9-42ED-841F-2D3C2BD609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18:30:41Z</cp:lastPrinted>
  <dcterms:modified xsi:type="dcterms:W3CDTF">2009-05-04T21:38:14Z</dcterms:modified>
  <cp:revision>91</cp:revision>
  <dc:subject/>
  <dc:title>AT Basic System Example</dc:title>
</cp:coreProperties>
</file>