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74CF-A49E-4D2A-8C3A-88FA2A9FF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FA1D-CF3C-45A1-AF0C-6722B8181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541A-51F4-471B-8A69-17FEFEB3F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F470-BCD5-420B-A849-1CF43DA47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6D33-13B3-4026-9E6D-EABF800C3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E1793-6945-453C-B0B1-0AC108666A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A0692-5169-403D-A4B3-6065068B7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EEAC5-86DF-4BBF-8891-3379414A5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68C67-F201-4759-8788-D7FC20F9A9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8BC55-F7E2-4914-8639-A62705E4B3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3985B-1E44-41DC-B3DF-29FAF20A7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9704-8E2A-4DBE-989C-AAE20D775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6CE7-7395-4A9E-896E-D839BB30A3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88F1C-70FC-4AF8-A521-1D70C0D12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A787E-8D91-4C32-B40A-8CEFEB6FA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B3740-2D54-4192-81EA-B7F19910A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98B9-44C3-4471-8B94-435B945D4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4A3F-C1B0-4E98-8196-E91EEBFE8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Jack Donovan</cp:lastModifiedBy>
  <dcterms:modified xsi:type="dcterms:W3CDTF">2009-06-25T22:11:39Z</dcterms:modified>
  <cp:revision>84</cp:revision>
  <dc:subject/>
  <dc:title>AT Basic System Example</dc:title>
</cp:coreProperties>
</file>