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CC121-6575-498D-B560-9C6E020E5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9BBB7-E58F-48E5-AE87-46FD19F578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E78EE0-EC1B-471C-B586-6F46BB2C3A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5B5D9-8AC8-4649-BD34-C9332C6A48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D1E60-95B8-440B-A52D-ABC9FB61D9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C9664-A48E-4FF6-847D-2D10C8A36A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4A0D8-1031-44C5-924A-86077DF7DE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A3D0A-D556-4548-A63D-1BA0BB0C9B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A75EF-DF60-47CF-A7D2-DB06C2491E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22243-2676-4013-AFCB-24F17E0287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4FA27-118C-4183-B0C2-24061D9A1E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4866B-5327-41DA-993A-753CDF4BBF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2FDEE-89BB-4C34-89F3-D507E6DCDA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F8457-F279-45FE-9F64-1B3E6FE19B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75FED-DFE0-4B8F-8C88-35C7F78CD2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936D1-EB1E-4DDD-9508-E51DDF2CF8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26BEC-D765-4CAF-B12F-B5389479CA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72371-0336-4AE9-A294-0AC2FD0DBC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E8320-D8E5-4CFE-800D-3647C7B809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78AEC-FD60-457C-9467-0A7EBFF06A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51181-00D5-4799-B05B-785FBDA7CA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712D6-0D08-413C-B33E-AB41849194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979ED-57E3-4186-88AA-2181D13727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32693-7B3A-4866-B4E8-93AF1913DAA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5C899-3442-4B8D-A55A-7789453DEAA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6D561-8E92-45B7-A447-22F6CC712F4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727EB-81AD-400E-B335-B2A64158A97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6B396-D663-4A4F-B142-51FD62F7E9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57942-43D2-4DD0-BAB0-3794C32D8D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1ED34-AEEE-4DD6-BD9C-FF223FEBF2A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416F6-24E4-4D2A-A7FC-0293089D69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9A3C7-1A9E-4387-851A-4DAF3F3D0AB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87911-8A70-48DB-A0AB-A781C3E5FD7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B1280-09BE-4A82-A51A-8D1813E5C4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9AB17-6FBE-4FA8-A858-E8F62E924E5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B42E9-7A49-4466-9B3B-A7EDACC84C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F0299-38B0-4885-AE73-F0559B80A0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6B9A4-72A4-4828-8E65-34E1E29A7F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99796-42DD-44FD-BFDD-C292AA78D4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82D86-76C2-479A-B01C-E225104D7E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1E078-151F-4B65-9394-E07D99A47E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91669-021D-4698-BA25-735EA94C83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9DEC3-270C-4139-96F5-3C0E3B18E0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E9C44CE8-4C4A-4888-99AB-8DB40BE033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uperset Parameter Value Specific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perset Parameter Value Specific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tecting Unconsumed Parameters (R3.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ing in a mod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28"/>
          <p:cNvSpPr/>
          <p:nvPr/>
        </p:nvSpPr>
        <p:spPr>
          <a:xfrm flipH="1">
            <a:off x="2284560" y="4572000"/>
            <a:ext cx="144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33"/>
          <p:cNvSpPr/>
          <p:nvPr/>
        </p:nvSpPr>
        <p:spPr>
          <a:xfrm>
            <a:off x="762120" y="4038480"/>
            <a:ext cx="24382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34"/>
          <p:cNvSpPr/>
          <p:nvPr/>
        </p:nvSpPr>
        <p:spPr>
          <a:xfrm>
            <a:off x="6095880" y="4114800"/>
            <a:ext cx="2667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configurato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7"/>
          <p:cNvSpPr/>
          <p:nvPr/>
        </p:nvSpPr>
        <p:spPr>
          <a:xfrm>
            <a:off x="457200" y="68580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.cpp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estbench fi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38"/>
          <p:cNvSpPr/>
          <p:nvPr/>
        </p:nvSpPr>
        <p:spPr>
          <a:xfrm>
            <a:off x="533520" y="990720"/>
            <a:ext cx="8001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configuration file approach for assigning preset values to the cci-parameters.  (For further details, see ex17_Specifying_Parameter_Values_via_a_Configuration_File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angle 40"/>
          <p:cNvSpPr/>
          <p:nvPr/>
        </p:nvSpPr>
        <p:spPr>
          <a:xfrm>
            <a:off x="2286000" y="2666880"/>
            <a:ext cx="4800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e the two modules 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WN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ul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9" name="Straight Arrow Connector 43"/>
          <p:cNvCxnSpPr>
            <a:stCxn id="188" idx="2"/>
            <a:endCxn id="184" idx="0"/>
          </p:cNvCxnSpPr>
          <p:nvPr/>
        </p:nvCxnSpPr>
        <p:spPr>
          <a:xfrm flipH="1">
            <a:off x="1980360" y="3352320"/>
            <a:ext cx="27061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0" name="Straight Arrow Connector 45"/>
          <p:cNvCxnSpPr>
            <a:stCxn id="188" idx="2"/>
            <a:endCxn id="185" idx="0"/>
          </p:cNvCxnSpPr>
          <p:nvPr/>
        </p:nvCxnSpPr>
        <p:spPr>
          <a:xfrm>
            <a:off x="4686480" y="3352320"/>
            <a:ext cx="27439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1" name="Rectangle 46"/>
          <p:cNvSpPr/>
          <p:nvPr/>
        </p:nvSpPr>
        <p:spPr>
          <a:xfrm>
            <a:off x="152280" y="4800600"/>
            <a:ext cx="4267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e the cci_parameters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Nam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_param_1;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Valu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Nam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_param_2;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Valu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Rectangle 47"/>
          <p:cNvSpPr/>
          <p:nvPr/>
        </p:nvSpPr>
        <p:spPr>
          <a:xfrm>
            <a:off x="6113520" y="4992840"/>
            <a:ext cx="2666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handle for broker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_broker(cci::cci_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Straight Connector 28"/>
          <p:cNvSpPr/>
          <p:nvPr/>
        </p:nvSpPr>
        <p:spPr>
          <a:xfrm flipH="1">
            <a:off x="7237440" y="4572000"/>
            <a:ext cx="144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5"/>
          <p:cNvSpPr/>
          <p:nvPr/>
        </p:nvSpPr>
        <p:spPr>
          <a:xfrm>
            <a:off x="6095880" y="1600200"/>
            <a:ext cx="2819520" cy="1143000"/>
          </a:xfrm>
          <a:prstGeom prst="flowChartDocumen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6629400" y="2666880"/>
            <a:ext cx="163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figuration_Fi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590400" y="1827720"/>
            <a:ext cx="451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ci::cnf::cci_configFile_Tool configTool("configFileTool");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figTool.config("Configuration_File.txt")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304920" y="914400"/>
            <a:ext cx="24382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configurato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47"/>
          <p:cNvSpPr/>
          <p:nvPr/>
        </p:nvSpPr>
        <p:spPr>
          <a:xfrm>
            <a:off x="4038480" y="2882880"/>
            <a:ext cx="4800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 list of unconsumed preset values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onsumed_parameter_list = m_broker.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_unconsumed_preset_value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2438280" y="2577960"/>
            <a:ext cx="1905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EOE phas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3200400" y="43434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0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ctangle 17"/>
          <p:cNvSpPr/>
          <p:nvPr/>
        </p:nvSpPr>
        <p:spPr>
          <a:xfrm>
            <a:off x="4038480" y="4572000"/>
            <a:ext cx="4267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 the list of parameter names for which there are unconsumed preset values: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_owner.int_param_3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_owner.int_param_4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Straight Connector 28"/>
          <p:cNvSpPr/>
          <p:nvPr/>
        </p:nvSpPr>
        <p:spPr>
          <a:xfrm flipH="1">
            <a:off x="1523520" y="1676520"/>
            <a:ext cx="180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4038480" y="1447920"/>
            <a:ext cx="51055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_param_handles(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trieve list of all cci-parameters within model.  Store result in a std::vect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_parameter_list =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_broker.get_param_handles(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8_Superset_Parameter_Value_Specification.log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0880" y="1514160"/>
            <a:ext cx="86868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1' to '1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2' to '2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3' to '3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4' to '400‘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List of all parameters in the mod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Parameter Name : param_owner.int_param_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Parameter Name : param_owner.int_param_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List of parameter names with unconsumed preset valu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Unconsumed Parameter Name : param_owner.int_param_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Unconsumed Parameter Name : param_owner.int_param_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5:40:57Z</dcterms:modified>
  <cp:revision>20</cp:revision>
  <dc:subject/>
  <dc:title>ex18_Superset_Parameter_Value_Specifi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40:57Z</vt:lpwstr>
  </property>
  <property fmtid="{D5CDD505-2E9C-101B-9397-08002B2CF9AE}" pid="5" name="TitusGUID">
    <vt:lpwstr>407613b7-d1ea-43f3-af1c-aef363dad956</vt:lpwstr>
  </property>
</Properties>
</file>