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DBB20-0B41-4D80-8406-E88671AC1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9D0AD-6C5F-4F54-982E-6ACD39B237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73078-218E-4B75-8ADC-495659863E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60F9F-C5EC-46AB-A845-C6FAE7A199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E94A3-D4FF-4DB4-B4ED-B8EFA20E00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CDE75-B872-49B2-BE6F-F36DF4146A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3CEF6-DE8A-4155-8EFE-2649A5368D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4266C-31E3-43FF-901F-250EFF67D3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B988F-CA71-43EC-A44A-1D95B12A67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C861F-0E73-4F8E-9FFD-5C63259E6F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CD963-961A-4CB0-B037-F8AD152624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B9155-13E5-4C64-8409-7D7A417D5A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3D4F9-1BD4-4C3E-9579-AB06AE4D14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584BB-0648-4A32-994D-5201A8D727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0F73E-695A-4170-A5F7-840D347F1A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D0306-F3D6-4DB1-8D1C-A030CC3DA4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A1C8B-F67D-4003-9014-3CB41BF004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554CD-30CF-4798-9C1A-65F6803A29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E593B-713E-434A-8D26-11B0742C6C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B2299-B312-4F31-8B1B-AFCEE6FBE1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6A5B6-5DFF-44F0-83D4-78CF695A7B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5FC76-5ECB-4A95-A19D-F7FA8DA355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737B9-29E1-4A32-A01D-720FA01E67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613B2-879D-41ED-83BC-CA2632938B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4499C-64FD-49D6-945C-09DE6057D2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4F96A-3B2B-46AC-8CB3-F6CA616E0E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F55FC-9910-43FE-BF92-FAFFDD64B1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E2036-B585-4622-A7DC-BF5A276375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52613-8FFB-49B7-A6A4-2B30530BFB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A524A-E655-4C24-BC5F-DD7A0EA7E5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C7596-C9D7-4339-883B-58D517A5D2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72237-659D-4A3E-AA85-4FB146AE9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A0B75-1ADC-49E7-8E0A-ED205DF29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78117-EACD-46FD-86B7-FA90AE1B0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883BE-0A39-4544-ADC3-3672BF8F6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9899-F205-4AF9-AE86-D5A2DDD51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B6793-96DD-43A2-87A1-01DB805039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90A52-1812-40A6-92E6-217897E3B3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B214C-8402-4CD3-8BE2-DB405E0D6A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3C5B7-28CB-401F-BBF3-E4F87C2156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E731B-ABEE-47DA-B814-8D1DCC69DE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F2F59-3853-4DBE-806E-CCA2BB1320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EC87D-C05F-41DB-8708-B29D158559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8721A-6088-4038-8D8D-02123997E4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EF54B-42AF-433D-98F2-AE0CAB8E99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6A6BA-F82D-49E7-BFC6-A24518257E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C9E86-A5E1-4FE6-BB3F-2A0C16596B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57BB3-9AAB-4108-AE53-F0FCFE8EAD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20C32-CD54-480D-A6C7-C102645D6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5B560-0048-48B9-9AFF-228473E703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7B048-7533-4C43-93A8-910C4FA5D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31A29-79B5-4F3B-86ED-050ED001F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4000C-E567-435D-8AD4-4ADC44D8A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AF92C-D618-45E2-A83D-2CF410757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243FD-A2AF-4F57-9242-0B0E3C4D5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C1B69-5D2F-40F5-91ED-E3F54299F7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E5477F15-3950-454C-B99A-AAB8A58156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733920" y="5181480"/>
            <a:ext cx="4572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earching and Directly Associating Parameter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Searching &amp; 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2403000" y="1227960"/>
            <a:ext cx="4374720" cy="986760"/>
            <a:chOff x="2403000" y="1227960"/>
            <a:chExt cx="4374720" cy="986760"/>
          </a:xfrm>
        </p:grpSpPr>
        <p:sp>
          <p:nvSpPr>
            <p:cNvPr id="188" name="AutoShape 23"/>
            <p:cNvSpPr/>
            <p:nvPr/>
          </p:nvSpPr>
          <p:spPr>
            <a:xfrm>
              <a:off x="2403000" y="1227960"/>
              <a:ext cx="437472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handles for owner modules’ parameters usi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ion broker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373200" y="1843200"/>
              <a:ext cx="23616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447920" y="322272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447920" y="371016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9440" y="243540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1447920" y="3071880"/>
            <a:ext cx="6400800" cy="1366920"/>
            <a:chOff x="1447920" y="3071880"/>
            <a:chExt cx="6400800" cy="1366920"/>
          </a:xfrm>
        </p:grpSpPr>
        <p:sp>
          <p:nvSpPr>
            <p:cNvPr id="210" name="AutoShape 23"/>
            <p:cNvSpPr/>
            <p:nvPr/>
          </p:nvSpPr>
          <p:spPr>
            <a:xfrm>
              <a:off x="1447920" y="3071880"/>
              <a:ext cx="6400800" cy="9907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473640" y="4151520"/>
              <a:ext cx="1970640" cy="28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1763640" y="1248840"/>
            <a:ext cx="5770800" cy="950400"/>
            <a:chOff x="1763640" y="1248840"/>
            <a:chExt cx="5770800" cy="950400"/>
          </a:xfrm>
        </p:grpSpPr>
        <p:sp>
          <p:nvSpPr>
            <p:cNvPr id="214" name="AutoShape 23"/>
            <p:cNvSpPr/>
            <p:nvPr/>
          </p:nvSpPr>
          <p:spPr>
            <a:xfrm>
              <a:off x="1763640" y="1248840"/>
              <a:ext cx="577080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the handles of the owner modul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ci_parameters to respective cci_param_handle through the brok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277080" y="1895040"/>
              <a:ext cx="2362320" cy="3042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6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178720" y="2437560"/>
            <a:ext cx="478620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cci-parameters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 us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3474360" y="3283200"/>
            <a:ext cx="4252680" cy="520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rite it’s default value to the other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1676520" y="320976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startu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s of 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40"/>
          <p:cNvGrpSpPr/>
          <p:nvPr/>
        </p:nvGrpSpPr>
        <p:grpSpPr>
          <a:xfrm>
            <a:off x="1630440" y="1184040"/>
            <a:ext cx="5731200" cy="749520"/>
            <a:chOff x="1630440" y="1184040"/>
            <a:chExt cx="5731200" cy="749520"/>
          </a:xfrm>
        </p:grpSpPr>
        <p:sp>
          <p:nvSpPr>
            <p:cNvPr id="241" name="AutoShape 5"/>
            <p:cNvSpPr/>
            <p:nvPr/>
          </p:nvSpPr>
          <p:spPr>
            <a:xfrm>
              <a:off x="3237840" y="1556640"/>
              <a:ext cx="2361960" cy="376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AutoShape 23"/>
            <p:cNvSpPr/>
            <p:nvPr/>
          </p:nvSpPr>
          <p:spPr>
            <a:xfrm>
              <a:off x="1630440" y="1184040"/>
              <a:ext cx="573120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initialized handles of parameters to by sync’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4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5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6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7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8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9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0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51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52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3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4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5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6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7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AutoShape 23"/>
          <p:cNvSpPr/>
          <p:nvPr/>
        </p:nvSpPr>
        <p:spPr>
          <a:xfrm>
            <a:off x="722160" y="3275280"/>
            <a:ext cx="78523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77880" y="2368440"/>
            <a:ext cx="7856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values of the paramet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 (cci::cci_param_handle  _param_handle_1, cci::cci_param_handle _param_handle_2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1" name="Curved Connector 10"/>
          <p:cNvCxnSpPr>
            <a:stCxn id="257" idx="0"/>
            <a:endCxn id="258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62" name="AutoShape 6"/>
          <p:cNvSpPr/>
          <p:nvPr/>
        </p:nvSpPr>
        <p:spPr>
          <a:xfrm>
            <a:off x="3735360" y="4105440"/>
            <a:ext cx="1827360" cy="16164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3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3" name="Curved Connector 10"/>
          <p:cNvCxnSpPr>
            <a:stCxn id="264" idx="4"/>
            <a:endCxn id="248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5" name="Group 33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6" name="AutoShape 15"/>
            <p:cNvSpPr/>
            <p:nvPr/>
          </p:nvSpPr>
          <p:spPr>
            <a:xfrm>
              <a:off x="6934320" y="464796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4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7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49"/>
          <p:cNvGrpSpPr/>
          <p:nvPr/>
        </p:nvGrpSpPr>
        <p:grpSpPr>
          <a:xfrm>
            <a:off x="76320" y="3276720"/>
            <a:ext cx="8961480" cy="2574720"/>
            <a:chOff x="76320" y="3276720"/>
            <a:chExt cx="8961480" cy="2574720"/>
          </a:xfrm>
        </p:grpSpPr>
        <p:grpSp>
          <p:nvGrpSpPr>
            <p:cNvPr id="270" name="Group 48"/>
            <p:cNvGrpSpPr/>
            <p:nvPr/>
          </p:nvGrpSpPr>
          <p:grpSpPr>
            <a:xfrm>
              <a:off x="76320" y="3276720"/>
              <a:ext cx="8961480" cy="2574720"/>
              <a:chOff x="76320" y="3276720"/>
              <a:chExt cx="8961480" cy="25747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6720"/>
                <a:ext cx="8961480" cy="2574720"/>
                <a:chOff x="76320" y="3276720"/>
                <a:chExt cx="8961480" cy="25747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6720"/>
                  <a:ext cx="8961480" cy="2574720"/>
                  <a:chOff x="76320" y="3276720"/>
                  <a:chExt cx="8961480" cy="2574720"/>
                </a:xfrm>
              </p:grpSpPr>
              <p:grpSp>
                <p:nvGrpSpPr>
                  <p:cNvPr id="273" name="Group 5"/>
                  <p:cNvGrpSpPr/>
                  <p:nvPr/>
                </p:nvGrpSpPr>
                <p:grpSpPr>
                  <a:xfrm>
                    <a:off x="76320" y="3276720"/>
                    <a:ext cx="8961480" cy="2574720"/>
                    <a:chOff x="76320" y="3276720"/>
                    <a:chExt cx="8961480" cy="2574720"/>
                  </a:xfrm>
                </p:grpSpPr>
                <p:grpSp>
                  <p:nvGrpSpPr>
                    <p:cNvPr id="274" name="Group 1"/>
                    <p:cNvGrpSpPr/>
                    <p:nvPr/>
                  </p:nvGrpSpPr>
                  <p:grpSpPr>
                    <a:xfrm>
                      <a:off x="76320" y="3276720"/>
                      <a:ext cx="8961480" cy="2574720"/>
                      <a:chOff x="76320" y="3276720"/>
                      <a:chExt cx="8961480" cy="2574720"/>
                    </a:xfrm>
                  </p:grpSpPr>
                  <p:sp>
                    <p:nvSpPr>
                      <p:cNvPr id="275" name="AutoShape 3"/>
                      <p:cNvSpPr/>
                      <p:nvPr/>
                    </p:nvSpPr>
                    <p:spPr>
                      <a:xfrm>
                        <a:off x="76320" y="3276720"/>
                        <a:ext cx="8961480" cy="2041560"/>
                      </a:xfrm>
                      <a:prstGeom prst="roundRect">
                        <a:avLst>
                          <a:gd name="adj" fmla="val 134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76" name="AutoShape 8"/>
                      <p:cNvSpPr/>
                      <p:nvPr/>
                    </p:nvSpPr>
                    <p:spPr>
                      <a:xfrm>
                        <a:off x="3961080" y="5341320"/>
                        <a:ext cx="1601640" cy="51012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Top_Module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77" name="Group 32"/>
                    <p:cNvGrpSpPr/>
                    <p:nvPr/>
                  </p:nvGrpSpPr>
                  <p:grpSpPr>
                    <a:xfrm>
                      <a:off x="304920" y="4070520"/>
                      <a:ext cx="4030560" cy="963360"/>
                      <a:chOff x="304920" y="4070520"/>
                      <a:chExt cx="4030560" cy="963360"/>
                    </a:xfrm>
                  </p:grpSpPr>
                  <p:grpSp>
                    <p:nvGrpSpPr>
                      <p:cNvPr id="278" name="Group 29"/>
                      <p:cNvGrpSpPr/>
                      <p:nvPr/>
                    </p:nvGrpSpPr>
                    <p:grpSpPr>
                      <a:xfrm>
                        <a:off x="304920" y="4070520"/>
                        <a:ext cx="4030560" cy="523800"/>
                        <a:chOff x="304920" y="4070520"/>
                        <a:chExt cx="4030560" cy="523800"/>
                      </a:xfrm>
                    </p:grpSpPr>
                    <p:sp>
                      <p:nvSpPr>
                        <p:cNvPr id="279" name="AutoShape 11"/>
                        <p:cNvSpPr/>
                        <p:nvPr/>
                      </p:nvSpPr>
                      <p:spPr>
                        <a:xfrm>
                          <a:off x="304920" y="4070520"/>
                          <a:ext cx="403056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0" name="Group 28"/>
                        <p:cNvGrpSpPr/>
                        <p:nvPr/>
                      </p:nvGrpSpPr>
                      <p:grpSpPr>
                        <a:xfrm>
                          <a:off x="449280" y="4169880"/>
                          <a:ext cx="3741840" cy="293400"/>
                          <a:chOff x="449280" y="4169880"/>
                          <a:chExt cx="3741840" cy="293400"/>
                        </a:xfrm>
                      </p:grpSpPr>
                      <p:sp>
                        <p:nvSpPr>
                          <p:cNvPr id="281" name="AutoShape 12"/>
                          <p:cNvSpPr/>
                          <p:nvPr/>
                        </p:nvSpPr>
                        <p:spPr>
                          <a:xfrm>
                            <a:off x="449280" y="4169880"/>
                            <a:ext cx="198936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k_freq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2" name="AutoShape 15"/>
                          <p:cNvSpPr/>
                          <p:nvPr/>
                        </p:nvSpPr>
                        <p:spPr>
                          <a:xfrm>
                            <a:off x="2362320" y="4169880"/>
                            <a:ext cx="182880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 fontScale="96000"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1000 (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83" name="AutoShape 6"/>
                      <p:cNvSpPr/>
                      <p:nvPr/>
                    </p:nvSpPr>
                    <p:spPr>
                      <a:xfrm>
                        <a:off x="122076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1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84" name="Group 2"/>
                    <p:cNvGrpSpPr/>
                    <p:nvPr/>
                  </p:nvGrpSpPr>
                  <p:grpSpPr>
                    <a:xfrm>
                      <a:off x="4419720" y="4070520"/>
                      <a:ext cx="4411440" cy="963360"/>
                      <a:chOff x="4419720" y="4070520"/>
                      <a:chExt cx="4411440" cy="963360"/>
                    </a:xfrm>
                  </p:grpSpPr>
                  <p:grpSp>
                    <p:nvGrpSpPr>
                      <p:cNvPr id="285" name="Group 31"/>
                      <p:cNvGrpSpPr/>
                      <p:nvPr/>
                    </p:nvGrpSpPr>
                    <p:grpSpPr>
                      <a:xfrm>
                        <a:off x="4419720" y="4070520"/>
                        <a:ext cx="4411440" cy="523800"/>
                        <a:chOff x="4419720" y="4070520"/>
                        <a:chExt cx="4411440" cy="523800"/>
                      </a:xfrm>
                    </p:grpSpPr>
                    <p:sp>
                      <p:nvSpPr>
                        <p:cNvPr id="286" name="AutoShape 11"/>
                        <p:cNvSpPr/>
                        <p:nvPr/>
                      </p:nvSpPr>
                      <p:spPr>
                        <a:xfrm>
                          <a:off x="4419720" y="4070520"/>
                          <a:ext cx="441144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7" name="Group 30"/>
                        <p:cNvGrpSpPr/>
                        <p:nvPr/>
                      </p:nvGrpSpPr>
                      <p:grpSpPr>
                        <a:xfrm>
                          <a:off x="4556160" y="4145040"/>
                          <a:ext cx="4275000" cy="335160"/>
                          <a:chOff x="4556160" y="4145040"/>
                          <a:chExt cx="4275000" cy="335160"/>
                        </a:xfrm>
                      </p:grpSpPr>
                      <p:sp>
                        <p:nvSpPr>
                          <p:cNvPr id="288" name="AutoShape 12"/>
                          <p:cNvSpPr/>
                          <p:nvPr/>
                        </p:nvSpPr>
                        <p:spPr>
                          <a:xfrm>
                            <a:off x="4556160" y="4145040"/>
                            <a:ext cx="237816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ock_speed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9" name="AutoShape 15"/>
                          <p:cNvSpPr/>
                          <p:nvPr/>
                        </p:nvSpPr>
                        <p:spPr>
                          <a:xfrm>
                            <a:off x="6850080" y="4145040"/>
                            <a:ext cx="198108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2 (K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90" name="AutoShape 6"/>
                      <p:cNvSpPr/>
                      <p:nvPr/>
                    </p:nvSpPr>
                    <p:spPr>
                      <a:xfrm>
                        <a:off x="571644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2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291" name="Oval 26"/>
                  <p:cNvSpPr/>
                  <p:nvPr/>
                </p:nvSpPr>
                <p:spPr>
                  <a:xfrm>
                    <a:off x="4495680" y="4130640"/>
                    <a:ext cx="2354400" cy="3650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92" name="AutoShape 15"/>
                <p:cNvSpPr/>
                <p:nvPr/>
              </p:nvSpPr>
              <p:spPr>
                <a:xfrm>
                  <a:off x="7010280" y="4191120"/>
                  <a:ext cx="167652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Old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3" name="Oval 25"/>
              <p:cNvSpPr/>
              <p:nvPr/>
            </p:nvSpPr>
            <p:spPr>
              <a:xfrm>
                <a:off x="380880" y="4100400"/>
                <a:ext cx="2057400" cy="4413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94" name="Group 25"/>
            <p:cNvGrpSpPr/>
            <p:nvPr/>
          </p:nvGrpSpPr>
          <p:grpSpPr>
            <a:xfrm>
              <a:off x="1409400" y="3429000"/>
              <a:ext cx="4264200" cy="704880"/>
              <a:chOff x="1409400" y="3429000"/>
              <a:chExt cx="4264200" cy="704880"/>
            </a:xfrm>
          </p:grpSpPr>
          <p:cxnSp>
            <p:nvCxnSpPr>
              <p:cNvPr id="295" name="Curved Connector 10"/>
              <p:cNvCxnSpPr>
                <a:stCxn id="293" idx="0"/>
                <a:endCxn id="296" idx="1"/>
              </p:cNvCxnSpPr>
              <p:nvPr/>
            </p:nvCxnSpPr>
            <p:spPr>
              <a:xfrm flipH="1" flipV="1" rot="5400000">
                <a:off x="1937160" y="3052800"/>
                <a:ext cx="506880" cy="156276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  <p:sp>
            <p:nvSpPr>
              <p:cNvPr id="296" name="AutoShape 15"/>
              <p:cNvSpPr/>
              <p:nvPr/>
            </p:nvSpPr>
            <p:spPr>
              <a:xfrm>
                <a:off x="2971800" y="3429000"/>
                <a:ext cx="1828800" cy="303120"/>
              </a:xfrm>
              <a:prstGeom prst="roundRect">
                <a:avLst>
                  <a:gd name="adj" fmla="val 46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Bitstream Charter"/>
                  </a:rPr>
                  <a:t>param_value_sync</a:t>
                </a:r>
                <a:endParaRPr b="0" lang="en-US" sz="11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cxnSp>
            <p:nvCxnSpPr>
              <p:cNvPr id="297" name="Curved Connector 10"/>
              <p:cNvCxnSpPr>
                <a:stCxn id="296" idx="3"/>
                <a:endCxn id="291" idx="0"/>
              </p:cNvCxnSpPr>
              <p:nvPr/>
            </p:nvCxnSpPr>
            <p:spPr>
              <a:xfrm>
                <a:off x="4800240" y="3580920"/>
                <a:ext cx="873720" cy="55332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</p:grpSp>
      </p:grpSp>
      <p:grpSp>
        <p:nvGrpSpPr>
          <p:cNvPr id="298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9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0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1" name="Curved Connector 9"/>
          <p:cNvCxnSpPr>
            <a:stCxn id="300" idx="1"/>
            <a:endCxn id="293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2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3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4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5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6" name="AutoShape 42"/>
          <p:cNvCxnSpPr>
            <a:stCxn id="296" idx="0"/>
            <a:endCxn id="305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07" name="Group 15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8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0" name="Rectangle 5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23"/>
          <p:cNvGrpSpPr/>
          <p:nvPr/>
        </p:nvGrpSpPr>
        <p:grpSpPr>
          <a:xfrm>
            <a:off x="76320" y="3581280"/>
            <a:ext cx="8961480" cy="2574720"/>
            <a:chOff x="76320" y="3581280"/>
            <a:chExt cx="8961480" cy="2574720"/>
          </a:xfrm>
        </p:grpSpPr>
        <p:grpSp>
          <p:nvGrpSpPr>
            <p:cNvPr id="313" name="Group 92"/>
            <p:cNvGrpSpPr/>
            <p:nvPr/>
          </p:nvGrpSpPr>
          <p:grpSpPr>
            <a:xfrm>
              <a:off x="76320" y="3581280"/>
              <a:ext cx="8961480" cy="2574720"/>
              <a:chOff x="76320" y="3581280"/>
              <a:chExt cx="8961480" cy="2574720"/>
            </a:xfrm>
          </p:grpSpPr>
          <p:grpSp>
            <p:nvGrpSpPr>
              <p:cNvPr id="314" name="Group 93"/>
              <p:cNvGrpSpPr/>
              <p:nvPr/>
            </p:nvGrpSpPr>
            <p:grpSpPr>
              <a:xfrm>
                <a:off x="76320" y="3581280"/>
                <a:ext cx="8961480" cy="2574720"/>
                <a:chOff x="76320" y="3581280"/>
                <a:chExt cx="8961480" cy="2574720"/>
              </a:xfrm>
            </p:grpSpPr>
            <p:grpSp>
              <p:nvGrpSpPr>
                <p:cNvPr id="315" name="Group 94"/>
                <p:cNvGrpSpPr/>
                <p:nvPr/>
              </p:nvGrpSpPr>
              <p:grpSpPr>
                <a:xfrm>
                  <a:off x="76320" y="3581280"/>
                  <a:ext cx="8961480" cy="2574720"/>
                  <a:chOff x="76320" y="3581280"/>
                  <a:chExt cx="8961480" cy="2574720"/>
                </a:xfrm>
              </p:grpSpPr>
              <p:grpSp>
                <p:nvGrpSpPr>
                  <p:cNvPr id="316" name="Group 95"/>
                  <p:cNvGrpSpPr/>
                  <p:nvPr/>
                </p:nvGrpSpPr>
                <p:grpSpPr>
                  <a:xfrm>
                    <a:off x="76320" y="3581280"/>
                    <a:ext cx="8961480" cy="2574720"/>
                    <a:chOff x="76320" y="3581280"/>
                    <a:chExt cx="8961480" cy="2574720"/>
                  </a:xfrm>
                </p:grpSpPr>
                <p:grpSp>
                  <p:nvGrpSpPr>
                    <p:cNvPr id="317" name="Group 96"/>
                    <p:cNvGrpSpPr/>
                    <p:nvPr/>
                  </p:nvGrpSpPr>
                  <p:grpSpPr>
                    <a:xfrm>
                      <a:off x="76320" y="3581280"/>
                      <a:ext cx="8961480" cy="2574720"/>
                      <a:chOff x="76320" y="3581280"/>
                      <a:chExt cx="8961480" cy="2574720"/>
                    </a:xfrm>
                  </p:grpSpPr>
                  <p:grpSp>
                    <p:nvGrpSpPr>
                      <p:cNvPr id="318" name="Group 1"/>
                      <p:cNvGrpSpPr/>
                      <p:nvPr/>
                    </p:nvGrpSpPr>
                    <p:grpSpPr>
                      <a:xfrm>
                        <a:off x="76320" y="3581280"/>
                        <a:ext cx="8961480" cy="2574720"/>
                        <a:chOff x="76320" y="3581280"/>
                        <a:chExt cx="8961480" cy="2574720"/>
                      </a:xfrm>
                    </p:grpSpPr>
                    <p:sp>
                      <p:nvSpPr>
                        <p:cNvPr id="319" name="AutoShape 3"/>
                        <p:cNvSpPr/>
                        <p:nvPr/>
                      </p:nvSpPr>
                      <p:spPr>
                        <a:xfrm>
                          <a:off x="76320" y="3581280"/>
                          <a:ext cx="8961480" cy="2041560"/>
                        </a:xfrm>
                        <a:prstGeom prst="roundRect">
                          <a:avLst>
                            <a:gd name="adj" fmla="val 134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0" name="AutoShape 8"/>
                        <p:cNvSpPr/>
                        <p:nvPr/>
                      </p:nvSpPr>
                      <p:spPr>
                        <a:xfrm>
                          <a:off x="3961080" y="5645880"/>
                          <a:ext cx="1601640" cy="51012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Top_Module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1" name="Group 32"/>
                      <p:cNvGrpSpPr/>
                      <p:nvPr/>
                    </p:nvGrpSpPr>
                    <p:grpSpPr>
                      <a:xfrm>
                        <a:off x="304920" y="4375080"/>
                        <a:ext cx="4030560" cy="963360"/>
                        <a:chOff x="304920" y="4375080"/>
                        <a:chExt cx="4030560" cy="963360"/>
                      </a:xfrm>
                    </p:grpSpPr>
                    <p:grpSp>
                      <p:nvGrpSpPr>
                        <p:cNvPr id="322" name="Group 29"/>
                        <p:cNvGrpSpPr/>
                        <p:nvPr/>
                      </p:nvGrpSpPr>
                      <p:grpSpPr>
                        <a:xfrm>
                          <a:off x="304920" y="4375080"/>
                          <a:ext cx="4030560" cy="523800"/>
                          <a:chOff x="304920" y="4375080"/>
                          <a:chExt cx="4030560" cy="523800"/>
                        </a:xfrm>
                      </p:grpSpPr>
                      <p:sp>
                        <p:nvSpPr>
                          <p:cNvPr id="323" name="AutoShape 11"/>
                          <p:cNvSpPr/>
                          <p:nvPr/>
                        </p:nvSpPr>
                        <p:spPr>
                          <a:xfrm>
                            <a:off x="304920" y="4375080"/>
                            <a:ext cx="403056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24" name="Group 28"/>
                          <p:cNvGrpSpPr/>
                          <p:nvPr/>
                        </p:nvGrpSpPr>
                        <p:grpSpPr>
                          <a:xfrm>
                            <a:off x="449280" y="4474440"/>
                            <a:ext cx="3741840" cy="293400"/>
                            <a:chOff x="449280" y="4474440"/>
                            <a:chExt cx="3741840" cy="293400"/>
                          </a:xfrm>
                        </p:grpSpPr>
                        <p:sp>
                          <p:nvSpPr>
                            <p:cNvPr id="325" name="AutoShape 12"/>
                            <p:cNvSpPr/>
                            <p:nvPr/>
                          </p:nvSpPr>
                          <p:spPr>
                            <a:xfrm>
                              <a:off x="449280" y="4474440"/>
                              <a:ext cx="198936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k_freq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26" name="AutoShape 15"/>
                            <p:cNvSpPr/>
                            <p:nvPr/>
                          </p:nvSpPr>
                          <p:spPr>
                            <a:xfrm>
                              <a:off x="2362320" y="4474440"/>
                              <a:ext cx="182880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 fontScale="96000"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1000 (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27" name="AutoShape 6"/>
                        <p:cNvSpPr/>
                        <p:nvPr/>
                      </p:nvSpPr>
                      <p:spPr>
                        <a:xfrm>
                          <a:off x="122076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1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8" name="Group 2"/>
                      <p:cNvGrpSpPr/>
                      <p:nvPr/>
                    </p:nvGrpSpPr>
                    <p:grpSpPr>
                      <a:xfrm>
                        <a:off x="4419720" y="4375080"/>
                        <a:ext cx="4411440" cy="963360"/>
                        <a:chOff x="4419720" y="4375080"/>
                        <a:chExt cx="4411440" cy="963360"/>
                      </a:xfrm>
                    </p:grpSpPr>
                    <p:grpSp>
                      <p:nvGrpSpPr>
                        <p:cNvPr id="329" name="Group 31"/>
                        <p:cNvGrpSpPr/>
                        <p:nvPr/>
                      </p:nvGrpSpPr>
                      <p:grpSpPr>
                        <a:xfrm>
                          <a:off x="4419720" y="4375080"/>
                          <a:ext cx="4411440" cy="523800"/>
                          <a:chOff x="4419720" y="4375080"/>
                          <a:chExt cx="4411440" cy="523800"/>
                        </a:xfrm>
                      </p:grpSpPr>
                      <p:sp>
                        <p:nvSpPr>
                          <p:cNvPr id="330" name="AutoShape 11"/>
                          <p:cNvSpPr/>
                          <p:nvPr/>
                        </p:nvSpPr>
                        <p:spPr>
                          <a:xfrm>
                            <a:off x="4419720" y="4375080"/>
                            <a:ext cx="441144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31" name="Group 30"/>
                          <p:cNvGrpSpPr/>
                          <p:nvPr/>
                        </p:nvGrpSpPr>
                        <p:grpSpPr>
                          <a:xfrm>
                            <a:off x="4556160" y="4449600"/>
                            <a:ext cx="4275000" cy="335160"/>
                            <a:chOff x="4556160" y="4449600"/>
                            <a:chExt cx="4275000" cy="335160"/>
                          </a:xfrm>
                        </p:grpSpPr>
                        <p:sp>
                          <p:nvSpPr>
                            <p:cNvPr id="332" name="AutoShape 12"/>
                            <p:cNvSpPr/>
                            <p:nvPr/>
                          </p:nvSpPr>
                          <p:spPr>
                            <a:xfrm>
                              <a:off x="4556160" y="4449600"/>
                              <a:ext cx="237816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ock_speed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33" name="AutoShape 15"/>
                            <p:cNvSpPr/>
                            <p:nvPr/>
                          </p:nvSpPr>
                          <p:spPr>
                            <a:xfrm>
                              <a:off x="6850080" y="4449600"/>
                              <a:ext cx="198108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2 (K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34" name="AutoShape 6"/>
                        <p:cNvSpPr/>
                        <p:nvPr/>
                      </p:nvSpPr>
                      <p:spPr>
                        <a:xfrm>
                          <a:off x="571644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2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5" name="Oval 26"/>
                    <p:cNvSpPr/>
                    <p:nvPr/>
                  </p:nvSpPr>
                  <p:spPr>
                    <a:xfrm>
                      <a:off x="4495680" y="4435200"/>
                      <a:ext cx="2354400" cy="3650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36" name="AutoShape 15"/>
                  <p:cNvSpPr/>
                  <p:nvPr/>
                </p:nvSpPr>
                <p:spPr>
                  <a:xfrm>
                    <a:off x="7010280" y="4495680"/>
                    <a:ext cx="1676520" cy="303120"/>
                  </a:xfrm>
                  <a:prstGeom prst="roundRect">
                    <a:avLst>
                      <a:gd name="adj" fmla="val 463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Old Value :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 1000 (Hz)</a:t>
                    </a:r>
                    <a:endParaRPr b="0" lang="en-US" sz="11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37" name="Oval 25"/>
                <p:cNvSpPr/>
                <p:nvPr/>
              </p:nvSpPr>
              <p:spPr>
                <a:xfrm>
                  <a:off x="380880" y="44049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8" name="Group 117"/>
              <p:cNvGrpSpPr/>
              <p:nvPr/>
            </p:nvGrpSpPr>
            <p:grpSpPr>
              <a:xfrm>
                <a:off x="1409400" y="3733560"/>
                <a:ext cx="4264200" cy="704880"/>
                <a:chOff x="1409400" y="3733560"/>
                <a:chExt cx="4264200" cy="704880"/>
              </a:xfrm>
            </p:grpSpPr>
            <p:cxnSp>
              <p:nvCxnSpPr>
                <p:cNvPr id="339" name="Curved Connector 10"/>
                <p:cNvCxnSpPr>
                  <a:stCxn id="337" idx="0"/>
                  <a:endCxn id="340" idx="1"/>
                </p:cNvCxnSpPr>
                <p:nvPr/>
              </p:nvCxnSpPr>
              <p:spPr>
                <a:xfrm flipH="1" flipV="1" rot="5400000">
                  <a:off x="1937160" y="33573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40" name="AutoShape 15"/>
                <p:cNvSpPr/>
                <p:nvPr/>
              </p:nvSpPr>
              <p:spPr>
                <a:xfrm>
                  <a:off x="2971800" y="37335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41" name="Curved Connector 10"/>
                <p:cNvCxnSpPr>
                  <a:stCxn id="340" idx="3"/>
                  <a:endCxn id="335" idx="0"/>
                </p:cNvCxnSpPr>
                <p:nvPr/>
              </p:nvCxnSpPr>
              <p:spPr>
                <a:xfrm>
                  <a:off x="4800240" y="38854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42" name="AutoShape 23"/>
            <p:cNvSpPr/>
            <p:nvPr/>
          </p:nvSpPr>
          <p:spPr>
            <a:xfrm>
              <a:off x="6934320" y="4572000"/>
              <a:ext cx="1676160" cy="1522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3" name="AutoShape 23"/>
            <p:cNvSpPr/>
            <p:nvPr/>
          </p:nvSpPr>
          <p:spPr>
            <a:xfrm>
              <a:off x="2514600" y="4495680"/>
              <a:ext cx="1676520" cy="2286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4" name="Group 3"/>
          <p:cNvGrpSpPr/>
          <p:nvPr/>
        </p:nvGrpSpPr>
        <p:grpSpPr>
          <a:xfrm>
            <a:off x="1600200" y="1730520"/>
            <a:ext cx="6705720" cy="860400"/>
            <a:chOff x="1600200" y="1730520"/>
            <a:chExt cx="6705720" cy="860400"/>
          </a:xfrm>
        </p:grpSpPr>
        <p:sp>
          <p:nvSpPr>
            <p:cNvPr id="345" name="AutoShape 5"/>
            <p:cNvSpPr/>
            <p:nvPr/>
          </p:nvSpPr>
          <p:spPr>
            <a:xfrm>
              <a:off x="3562920" y="221364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>
              <a:off x="1600200" y="1730520"/>
              <a:ext cx="6705720" cy="4791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23"/>
          <p:cNvSpPr/>
          <p:nvPr/>
        </p:nvSpPr>
        <p:spPr>
          <a:xfrm>
            <a:off x="2971800" y="1066680"/>
            <a:ext cx="3581280" cy="457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9" name="Curved Connector 9"/>
          <p:cNvCxnSpPr>
            <a:stCxn id="346" idx="3"/>
            <a:endCxn id="335" idx="0"/>
          </p:cNvCxnSpPr>
          <p:nvPr/>
        </p:nvCxnSpPr>
        <p:spPr>
          <a:xfrm flipH="1">
            <a:off x="5673240" y="1969560"/>
            <a:ext cx="2633040" cy="2453400"/>
          </a:xfrm>
          <a:prstGeom prst="curvedConnector5">
            <a:avLst>
              <a:gd name="adj1" fmla="val -8683"/>
              <a:gd name="adj2" fmla="val 27560"/>
              <a:gd name="adj3" fmla="val -8683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grpSp>
        <p:nvGrpSpPr>
          <p:cNvPr id="350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3" name="Group 46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4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5" name="Oval 48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56" name="AutoShape 130"/>
          <p:cNvCxnSpPr>
            <a:stCxn id="340" idx="0"/>
          </p:cNvCxnSpPr>
          <p:nvPr/>
        </p:nvCxnSpPr>
        <p:spPr>
          <a:xfrm flipV="1">
            <a:off x="3886200" y="327636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Rectangle 1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1_Searching_and_Directly_Associateing_Parameters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Hz  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Hz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 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Hz 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Hz' of OWNER (2) to 12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Hz 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05T20:28:14Z</cp:lastPrinted>
  <dcterms:modified xsi:type="dcterms:W3CDTF">2017-12-16T22:24:22Z</dcterms:modified>
  <cp:revision>25</cp:revision>
  <dc:subject/>
  <dc:title>ex11_Searching_and_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24:21Z</vt:lpwstr>
  </property>
  <property fmtid="{D5CDD505-2E9C-101B-9397-08002B2CF9AE}" pid="5" name="TitusGUID">
    <vt:lpwstr>3cb855b7-0950-486a-ab41-5d5a221903ba</vt:lpwstr>
  </property>
</Properties>
</file>