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D64A-4981-4EC6-9026-852BBB470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9897-63C4-48C3-8691-662C8EC59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B855-4F03-42AD-9E00-D2C488251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AA0E-0D65-4FE7-A139-979BB1C6B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C375-9583-4B86-B0A3-1EC4C10AD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9C0E-CBCB-4186-88C2-7970E6871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A9BA-B28B-4A37-B6DF-D80747124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B57B-D09F-48AE-9660-873E88B70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FCD3-AA40-4E30-A679-47629452C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41E1-7667-4EBD-AD53-4B1471E5D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F266-B826-45BB-B1D1-1229B9C14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B244-0184-4791-9C12-525F7349BA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E946A-8BBC-4EF0-9742-48D7ED835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60E8-661D-4456-882F-0E7E23BFA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C9E5-7E5A-4CB2-8142-593251F7A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63E3-0B43-49B4-B3CF-AE4733576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BA47-FBF9-4087-BDE4-40EE1C7B4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841C5-BD7A-4D79-A4F1-03489E6E1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BC00-668C-43CA-9E1E-478D12AC9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55CE-84A1-4C4D-8F84-0EDFF7D13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52:42Z</dcterms:modified>
  <cp:revision>184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52:42Z</vt:lpwstr>
  </property>
  <property fmtid="{D5CDD505-2E9C-101B-9397-08002B2CF9AE}" pid="5" name="TitusGUID">
    <vt:lpwstr>9e508fab-0d4d-42f6-bb4e-875dc6a2e392</vt:lpwstr>
  </property>
</Properties>
</file>