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788A4-FB0C-40C9-BF28-E263474FF8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E26A3-C0CE-4889-ACE3-1C88B7ECB7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553DF-9948-4BB5-B0BE-844CE9238D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05B76-9FC8-4F4E-9076-5F7AE968DB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There are lot more messages coming from CCI infrastructure code; the report includes only user messages (not from cci infr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CBBD6-18F2-4FA4-8451-49F50F3191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There are lot more messages coming from CCI infrastructure code; the report includes only user messages (not from cci infr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6BA9B-8E12-4F89-9125-486CFA3F50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0ABCE3-56D5-4261-AFEC-2D14F1E54C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136BE4-E4B3-4FA8-BFA0-745AAC1EF4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CB5876-BD5A-413B-968A-4C2FB4003A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E16DBA-FC43-419E-A86C-7C53CA83C5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D91579-4EFE-43E4-AC44-6E19E3EF6C7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59A9A6-9095-413E-91A5-68EDC910E7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0BDD1F-3C5F-49D3-8ECB-5EC2E3D5CB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4F0E4D-B3DB-41A2-AB59-8D9C7A2148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1BA286-71F6-4203-94E4-F7DCD394D4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A0D4AD-49A4-4A39-A987-EBBDF82063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B07F0C-EE1F-4A2E-842C-A3D1CB913C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2B396F-5583-45E0-AF0E-8D923D2AAC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E1B70-ED59-43C2-B735-855200C15C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Parameter Value Change callback</a:t>
            </a:r>
            <a:br>
              <a:rPr sz="2600"/>
            </a:br>
            <a:br>
              <a:rPr sz="26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C CCI WG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heshadri Chakravart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eb 201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arameter Value Change callback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31640" indent="-32364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monstrate requesting and responding to value change notification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module creates couple of parameters and sets callbacks on both of the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e case of param_1, the user module would allow value change without any constraint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e case of param_2, the user module would reject value change unconditionally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6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Sequence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92" name="Picture 4" descr="cci_ex8.jpeg"/>
          <p:cNvPicPr/>
          <p:nvPr/>
        </p:nvPicPr>
        <p:blipFill>
          <a:blip r:embed="rId1"/>
          <a:stretch/>
        </p:blipFill>
        <p:spPr>
          <a:xfrm>
            <a:off x="138240" y="700200"/>
            <a:ext cx="8867520" cy="5457600"/>
          </a:xfrm>
          <a:prstGeom prst="rect">
            <a:avLst/>
          </a:prstGeom>
          <a:ln w="0">
            <a:noFill/>
          </a:ln>
        </p:spPr>
      </p:pic>
      <p:sp>
        <p:nvSpPr>
          <p:cNvPr id="93" name="AutoShape 17"/>
          <p:cNvSpPr/>
          <p:nvPr/>
        </p:nvSpPr>
        <p:spPr>
          <a:xfrm>
            <a:off x="2093760" y="5370480"/>
            <a:ext cx="6921720" cy="689040"/>
          </a:xfrm>
          <a:prstGeom prst="leftArrowCallout">
            <a:avLst>
              <a:gd name="adj1" fmla="val 14751"/>
              <a:gd name="adj2" fmla="val 25000"/>
              <a:gd name="adj3" fmla="val 123243"/>
              <a:gd name="adj4" fmla="val 3651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Observe that since write is rejec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for param_2 reject_write callback,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no other callbacks are triggere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</a:t>
            </a:r>
            <a:br>
              <a:rPr sz="3200"/>
            </a:b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ex08_Parameter_Value_Change_Callbacks.log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SystemC Simul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sim_ip: @0 s, typed_pre_read_callback:sim_ip.param_1 (1) by sim_ip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sim_ip: @0 s, @Ctor: Value of sim_ip.param_1 is 1 (Default value Specified: 1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sim_ip: @0 s, typed_pre_read_callback:sim_ip.param_2 (2) by sim_ip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sim_ip: @0 s, @Ctor: Value of sim_ip.param_2 is 2 (Default value Specified: 2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sc_main: Begin Simulation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cfg_ip: @0 s, config_ip::end_of_elaboration: [EXTERNAL] Set value of sim_ip.param_1 to 1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sim_ip: @0 s, typed_pre_write_callback:sim_ip.param_1 (1 -&gt; 10) by cfg_ip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sim_ip: @0 s, typed_post_write_callback:sim_ip.param_1 (1 -&gt; 10) by cfg_ip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sim_ip: @0 s, typed_pre_read_callback:sim_ip.param_1 (10) by cfg_ip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cfg_ip: @0 s, config_ip::end_of_elaboration: [EXTERNAL] Current value of sim_ip.param_1 is 1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cfg_ip: @0 s, config_ip::end_of_elaboration: [EXTERNAL] Set value of sim_ip.param_2 to 2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sim_ip: @0 s, reject_pre_write_callback: Rejecting Value change on sim_ip.param_2 (2 -&gt; 20) by cfg_ip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Consolas"/>
                <a:ea typeface="Consolas"/>
              </a:rPr>
              <a:t>Warning: cfg_ip: @0 s, Caught exception: Error: /Accellera/CCI/SET_PARAM_FAILED: Value rejected by callback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7f7f7f"/>
                </a:solidFill>
                <a:latin typeface="Consolas"/>
                <a:ea typeface="Consolas"/>
              </a:rPr>
              <a:t>In file: &lt;removed by verify.pl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7f7f7f"/>
                </a:solidFill>
                <a:latin typeface="Consolas"/>
                <a:ea typeface="Consolas"/>
              </a:rPr>
              <a:t>In file: &lt;removed by verify.pl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ntd.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</a:rPr>
              <a:t>Info: sim_ip: @0 s, typed_pre_read_callback:sim_ip.param_2 (2) by cfg_ip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</a:rPr>
              <a:t>Info: cfg_ip: @0 s, config_ip::end_of_elaboration: [EXTERNAL] Current value of sim_ip.param_2 is 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</a:rPr>
              <a:t>Info: sc_main: End Simulation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</a:rPr>
              <a:t>Info: sim_ip: @0 s, typed_pre_read_callback:sim_ip.param_1 (10) by sim_ip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</a:rPr>
              <a:t>Info: sim_ip: @Dtor: Value of sim_ip.param_1 is 1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</a:rPr>
              <a:t>Info: sim_ip: @0 s, typed_pre_read_callback:sim_ip.param_2 (2) by sim_ip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</a:rPr>
              <a:t>Info: sim_ip: @Dtor: Value of sim_ip.param_2 is 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>CTPClassification=CTP_IC:VisualMarkings=</cp:keywords>
  <dc:language>en-US</dc:language>
  <cp:lastModifiedBy>Wieman, Trevor</cp:lastModifiedBy>
  <cp:lastPrinted>2008-06-04T21:47:01Z</cp:lastPrinted>
  <dcterms:modified xsi:type="dcterms:W3CDTF">2017-12-15T20:36:41Z</dcterms:modified>
  <cp:revision>149</cp:revision>
  <dc:subject/>
  <dc:title>AT Basic System Examp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7-12-15 20:36:41Z</vt:lpwstr>
  </property>
  <property fmtid="{D5CDD505-2E9C-101B-9397-08002B2CF9AE}" pid="5" name="TitusGUID">
    <vt:lpwstr>e91f1e81-ec8b-4b29-aa9d-61454af1454c</vt:lpwstr>
  </property>
</Properties>
</file>