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02150-1C50-4938-B45E-98E5607BB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5F429-A894-45CA-BC5F-5D73B3DAC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3964-463A-4894-965E-79F0B6CC2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17461-53C9-467E-BFE8-7C11AA5B1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CD98B-1283-446C-99E4-BBC9E745D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FC8EF-D937-44F9-943E-AC4E6D85A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0A582-08B0-4D95-9483-3DF51E7757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D3CE7-F085-492C-9618-DF85858D24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B5BBA-126D-4486-BDAC-C80D9837F5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0C8B6-96A6-4EFB-A8AE-B2A617E569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69D62-C1BC-4AFB-8AC4-B81DC7E378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7BEA3-0AB7-44DF-A5D4-8B029EF2A6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246C5-DB72-49C9-83EC-F7669CC8AC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E2F40-E6F9-4446-A591-B4A680038D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246D6-5A07-4902-A8F4-A1764051C4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F095B-9567-4792-83A3-8B04868B38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C4538-9783-4245-9CCB-B896F6D0D7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0E3E2-8145-4EFF-A6E4-5BFCB26495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5FAFB-8958-419D-8B87-D73B50B997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arameter Destruction Resurrection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OSCI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nal Podd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vember 201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Resurrection of Parameter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464840"/>
            <a:ext cx="8686800" cy="47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ever a parameter is destructed, all handles to that parameter are no longer valid and should not be us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arameter can be resurrected by the owner module and can be initialized to a new valu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makes the parameter handle valid again and usage can resu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br>
              <a:rPr sz="3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emonstrates that a parameter can be resurrected from the owner module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Folded Corner 26"/>
          <p:cNvSpPr/>
          <p:nvPr/>
        </p:nvSpPr>
        <p:spPr>
          <a:xfrm>
            <a:off x="1432080" y="2163600"/>
            <a:ext cx="158256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1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TextBox 27"/>
          <p:cNvSpPr/>
          <p:nvPr/>
        </p:nvSpPr>
        <p:spPr>
          <a:xfrm>
            <a:off x="444960" y="1776240"/>
            <a:ext cx="131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0ns, CTO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28"/>
          <p:cNvSpPr/>
          <p:nvPr/>
        </p:nvSpPr>
        <p:spPr>
          <a:xfrm>
            <a:off x="443160" y="364824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2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" name="Group 35"/>
          <p:cNvGrpSpPr/>
          <p:nvPr/>
        </p:nvGrpSpPr>
        <p:grpSpPr>
          <a:xfrm>
            <a:off x="3119040" y="4815000"/>
            <a:ext cx="1486440" cy="155160"/>
            <a:chOff x="3119040" y="4815000"/>
            <a:chExt cx="1486440" cy="155160"/>
          </a:xfrm>
        </p:grpSpPr>
        <p:sp>
          <p:nvSpPr>
            <p:cNvPr id="100" name="Rectangle 32"/>
            <p:cNvSpPr/>
            <p:nvPr/>
          </p:nvSpPr>
          <p:spPr>
            <a:xfrm>
              <a:off x="3140280" y="4815000"/>
              <a:ext cx="14652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1" name="Straight Arrow Connector 34"/>
            <p:cNvCxnSpPr/>
            <p:nvPr/>
          </p:nvCxnSpPr>
          <p:spPr>
            <a:xfrm flipH="1" flipV="1">
              <a:off x="3119040" y="496656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2" name="Folded Corner 36"/>
          <p:cNvSpPr/>
          <p:nvPr/>
        </p:nvSpPr>
        <p:spPr>
          <a:xfrm>
            <a:off x="1427040" y="3741840"/>
            <a:ext cx="155736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2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Box 37"/>
          <p:cNvSpPr/>
          <p:nvPr/>
        </p:nvSpPr>
        <p:spPr>
          <a:xfrm>
            <a:off x="443160" y="436104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3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Folded Corner 41"/>
          <p:cNvSpPr/>
          <p:nvPr/>
        </p:nvSpPr>
        <p:spPr>
          <a:xfrm>
            <a:off x="3157560" y="1776240"/>
            <a:ext cx="2722680" cy="29700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*int_param_ptr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Folded Corner 42"/>
          <p:cNvSpPr/>
          <p:nvPr/>
        </p:nvSpPr>
        <p:spPr>
          <a:xfrm>
            <a:off x="3205080" y="4452840"/>
            <a:ext cx="1629000" cy="282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te int_param_ptr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ounded Rectangular Callout 44"/>
          <p:cNvSpPr/>
          <p:nvPr/>
        </p:nvSpPr>
        <p:spPr>
          <a:xfrm>
            <a:off x="785880" y="554040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int_param ‘Owner’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45"/>
          <p:cNvSpPr/>
          <p:nvPr/>
        </p:nvSpPr>
        <p:spPr>
          <a:xfrm>
            <a:off x="4068720" y="547524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int_para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27"/>
          <p:cNvSpPr/>
          <p:nvPr/>
        </p:nvSpPr>
        <p:spPr>
          <a:xfrm>
            <a:off x="443520" y="274464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10ns,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Folded Corner 42"/>
          <p:cNvSpPr/>
          <p:nvPr/>
        </p:nvSpPr>
        <p:spPr>
          <a:xfrm>
            <a:off x="3230640" y="3581280"/>
            <a:ext cx="336708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_param_handle.set_cci_value(cci_value(2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Folded Corner 26"/>
          <p:cNvSpPr/>
          <p:nvPr/>
        </p:nvSpPr>
        <p:spPr>
          <a:xfrm>
            <a:off x="1432080" y="3087720"/>
            <a:ext cx="158256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2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1" name="Straight Arrow Connector 39"/>
          <p:cNvCxnSpPr/>
          <p:nvPr/>
        </p:nvCxnSpPr>
        <p:spPr>
          <a:xfrm flipH="1" flipV="1">
            <a:off x="3118680" y="3978000"/>
            <a:ext cx="3313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Folded Corner 42"/>
          <p:cNvSpPr/>
          <p:nvPr/>
        </p:nvSpPr>
        <p:spPr>
          <a:xfrm>
            <a:off x="3230640" y="2665440"/>
            <a:ext cx="160344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int_param_ptr = 2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" name="Group 35"/>
          <p:cNvGrpSpPr/>
          <p:nvPr/>
        </p:nvGrpSpPr>
        <p:grpSpPr>
          <a:xfrm>
            <a:off x="3119040" y="3079800"/>
            <a:ext cx="1486440" cy="155160"/>
            <a:chOff x="3119040" y="3079800"/>
            <a:chExt cx="1486440" cy="155160"/>
          </a:xfrm>
        </p:grpSpPr>
        <p:sp>
          <p:nvSpPr>
            <p:cNvPr id="114" name="Rectangle 32"/>
            <p:cNvSpPr/>
            <p:nvPr/>
          </p:nvSpPr>
          <p:spPr>
            <a:xfrm>
              <a:off x="3140280" y="3079800"/>
              <a:ext cx="14652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15" name="Straight Arrow Connector 34"/>
            <p:cNvCxnSpPr/>
            <p:nvPr/>
          </p:nvCxnSpPr>
          <p:spPr>
            <a:xfrm flipH="1" flipV="1">
              <a:off x="3119040" y="323136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" name="Straight Arrow Connector 16"/>
          <p:cNvCxnSpPr>
            <a:stCxn id="117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0" name="Straight Arrow Connector 17"/>
          <p:cNvCxnSpPr>
            <a:stCxn id="118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1" name="TextBox 27"/>
          <p:cNvSpPr/>
          <p:nvPr/>
        </p:nvSpPr>
        <p:spPr>
          <a:xfrm>
            <a:off x="443520" y="177624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50ns,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28"/>
          <p:cNvSpPr/>
          <p:nvPr/>
        </p:nvSpPr>
        <p:spPr>
          <a:xfrm>
            <a:off x="443160" y="365904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9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Folded Corner 42"/>
          <p:cNvSpPr/>
          <p:nvPr/>
        </p:nvSpPr>
        <p:spPr>
          <a:xfrm>
            <a:off x="3287880" y="3716280"/>
            <a:ext cx="1457280" cy="2844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 new value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Rounded Rectangular Callout 44"/>
          <p:cNvSpPr/>
          <p:nvPr/>
        </p:nvSpPr>
        <p:spPr>
          <a:xfrm>
            <a:off x="785880" y="554040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int_param ‘Owner’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ounded Rectangular Callout 45"/>
          <p:cNvSpPr/>
          <p:nvPr/>
        </p:nvSpPr>
        <p:spPr>
          <a:xfrm>
            <a:off x="4068720" y="547524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int_para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27"/>
          <p:cNvSpPr/>
          <p:nvPr/>
        </p:nvSpPr>
        <p:spPr>
          <a:xfrm>
            <a:off x="443520" y="274464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60ns,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Folded Corner 42"/>
          <p:cNvSpPr/>
          <p:nvPr/>
        </p:nvSpPr>
        <p:spPr>
          <a:xfrm>
            <a:off x="5259240" y="1859040"/>
            <a:ext cx="2627640" cy="4554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rm that the parameter handle of sim_ip.int_param is now inval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Folded Corner 26"/>
          <p:cNvSpPr/>
          <p:nvPr/>
        </p:nvSpPr>
        <p:spPr>
          <a:xfrm>
            <a:off x="1332000" y="3087720"/>
            <a:ext cx="16826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-1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Folded Corner 42"/>
          <p:cNvSpPr/>
          <p:nvPr/>
        </p:nvSpPr>
        <p:spPr>
          <a:xfrm>
            <a:off x="3230640" y="2587680"/>
            <a:ext cx="2452680" cy="43344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_param_ptr = new cci_param&lt;int&gt;("int_param", -10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0" name="Group 35"/>
          <p:cNvGrpSpPr/>
          <p:nvPr/>
        </p:nvGrpSpPr>
        <p:grpSpPr>
          <a:xfrm>
            <a:off x="3119040" y="3079800"/>
            <a:ext cx="1486440" cy="155160"/>
            <a:chOff x="3119040" y="3079800"/>
            <a:chExt cx="1486440" cy="155160"/>
          </a:xfrm>
        </p:grpSpPr>
        <p:sp>
          <p:nvSpPr>
            <p:cNvPr id="131" name="Rectangle 32"/>
            <p:cNvSpPr/>
            <p:nvPr/>
          </p:nvSpPr>
          <p:spPr>
            <a:xfrm>
              <a:off x="3140280" y="3079800"/>
              <a:ext cx="14652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32" name="Straight Arrow Connector 34"/>
            <p:cNvCxnSpPr/>
            <p:nvPr/>
          </p:nvCxnSpPr>
          <p:spPr>
            <a:xfrm flipH="1" flipV="1">
              <a:off x="3119040" y="323136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33" name="Folded Corner 42"/>
          <p:cNvSpPr/>
          <p:nvPr/>
        </p:nvSpPr>
        <p:spPr>
          <a:xfrm>
            <a:off x="5259240" y="3413160"/>
            <a:ext cx="2562480" cy="60624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up the sim_ip.int_param handle again and confirm its validity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Straight Arrow Connector 39"/>
          <p:cNvCxnSpPr/>
          <p:nvPr/>
        </p:nvCxnSpPr>
        <p:spPr>
          <a:xfrm flipH="1" flipV="1">
            <a:off x="3118680" y="4071600"/>
            <a:ext cx="3313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5" name="Folded Corner 26"/>
          <p:cNvSpPr/>
          <p:nvPr/>
        </p:nvSpPr>
        <p:spPr>
          <a:xfrm>
            <a:off x="1332000" y="3728880"/>
            <a:ext cx="1657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-1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ex21_Param_Destruction_Resurrection.log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Ctor: Default value of sim_ip.int_param is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execute: Set value of int_param to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execute: Current value of int_param is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execute: [EXTERNAL] Set value of sim_ip.int_param to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execute: [EXTERNAL] Current value of sim_ip.int_param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@30 ns, execute: Destroy sim_ip.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50 ns, execute: [EXTERNAL] Parameter handle of sim_ip.int_param is no more vali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@60 ns, execute: Resurrect sim_ip.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90 ns, execute: [EXTERNAL] Parameter handle of sim_ip.int_param is valid agai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90 ns, execute: [EXTERNAL] Current value of sim_ip.int_param is -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Dtor: Current value of sim_ip.int_param is -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2-17T15:47:40Z</dcterms:modified>
  <cp:revision>170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5:47:40Z</vt:lpwstr>
  </property>
  <property fmtid="{D5CDD505-2E9C-101B-9397-08002B2CF9AE}" pid="5" name="TitusGUID">
    <vt:lpwstr>ea6cc5ed-1c1b-4aa0-91f1-9c2633a3b32b</vt:lpwstr>
  </property>
</Properties>
</file>